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9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jpeg" ContentType="image/jpeg"/>
  <Override PartName="/ppt/media/image53.wmf" ContentType="image/x-wmf"/>
  <Override PartName="/ppt/media/image48.png" ContentType="image/png"/>
  <Override PartName="/ppt/media/image46.png" ContentType="image/png"/>
  <Override PartName="/ppt/media/image45.png" ContentType="image/png"/>
  <Override PartName="/ppt/media/image39.png" ContentType="image/png"/>
  <Override PartName="/ppt/media/image61.wmf" ContentType="image/x-wmf"/>
  <Override PartName="/ppt/media/image58.png" ContentType="image/png"/>
  <Override PartName="/ppt/media/image21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32.wmf" ContentType="image/x-wmf"/>
  <Override PartName="/ppt/media/image47.png" ContentType="image/png"/>
  <Override PartName="/ppt/media/image35.jpeg" ContentType="image/jpeg"/>
  <Override PartName="/ppt/media/image10.png" ContentType="image/png"/>
  <Override PartName="/ppt/media/image50.wmf" ContentType="image/x-wmf"/>
  <Override PartName="/ppt/media/image28.png" ContentType="image/png"/>
  <Override PartName="/ppt/media/image56.wmf" ContentType="image/x-wmf"/>
  <Override PartName="/ppt/media/image18.jpeg" ContentType="image/jpeg"/>
  <Override PartName="/ppt/media/image64.wmf" ContentType="image/x-wmf"/>
  <Override PartName="/ppt/media/image24.png" ContentType="image/png"/>
  <Override PartName="/ppt/media/image63.wmf" ContentType="image/x-wmf"/>
  <Override PartName="/ppt/media/image55.jpeg" ContentType="image/jpeg"/>
  <Override PartName="/ppt/media/image2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57.png" ContentType="image/png"/>
  <Override PartName="/ppt/media/image60.png" ContentType="image/png"/>
  <Override PartName="/ppt/media/image38.png" ContentType="image/png"/>
  <Override PartName="/ppt/media/image17.png" ContentType="image/png"/>
  <Override PartName="/ppt/media/image5.png" ContentType="image/png"/>
  <Override PartName="/ppt/media/image1.wmf" ContentType="image/x-wmf"/>
  <Override PartName="/ppt/media/image13.wmf" ContentType="image/x-wmf"/>
  <Override PartName="/ppt/media/image52.png" ContentType="image/png"/>
  <Override PartName="/ppt/media/image8.jpeg" ContentType="image/jpeg"/>
  <Override PartName="/ppt/media/image26.png" ContentType="image/png"/>
  <Override PartName="/ppt/media/image15.png" ContentType="image/png"/>
  <Override PartName="/ppt/media/image3.png" ContentType="image/png"/>
  <Override PartName="/ppt/media/image11.wmf" ContentType="image/x-wmf"/>
  <Override PartName="/ppt/media/image27.png" ContentType="image/png"/>
  <Override PartName="/ppt/media/image33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30.jpeg" ContentType="image/jpeg"/>
  <Override PartName="/ppt/media/image31.jpeg" ContentType="image/jpeg"/>
  <Override PartName="/ppt/media/image34.jpeg" ContentType="image/jpeg"/>
  <Override PartName="/ppt/media/image20.png" ContentType="image/png"/>
  <Override PartName="/ppt/media/image37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4545-CA07-4394-949E-1A2632FE3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33AD-2593-465C-AC11-E0C937365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D391-5287-46ED-A31E-E4C2A3947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2965320" y="685800"/>
            <a:ext cx="812880" cy="6094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028880" y="1409760"/>
            <a:ext cx="4838400" cy="77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friendships is about helping peers learn to accept and become friends with the child with Aut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ends are powerful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ends play an important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otional resources, both for having fun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ng to stres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cognitive resources for problem-solving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acquisition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peers and siblings be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contexts in which basic social skills are acquir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r elaborat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riendships may buffer children and adolesc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adverse effects of negative events,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s people develop in childhood ar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orerunners of subsequent relationshi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but don’t expect spontaneous inter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critical information to p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 students how to inte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ten children with autistic disorders shy away from interaction – important to help peers learn to be persistent in encouraging the child to join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each class there may be a protective, mothering type child who might give the answers for your stud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 how to cue, not to 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the child who isn’t verbal or who uses language in an eccentric, or unusual manner- teach others how to communicate with him  (Kindergarten signing cla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opportunities to highlight streng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ember the trauma associated with partner pi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24A8-FFEF-4FE6-B1B1-4763595C1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D486-37DB-4C4D-82FB-EA119D314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C680-8700-4CCE-8C2B-37DF53766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5AD2-C3CC-471D-9B2A-9AFB3533C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7872-31B7-45E1-A03E-DAA629F25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2832120" y="685800"/>
            <a:ext cx="507960" cy="38088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behavior may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EN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f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when you are not paying attention to the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ops when you stop paying attention to the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behavior may b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APE/AVOID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when you ask the student to do something that he or she does not like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ops after you stop making dem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behavior may b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TTING SOMETHING/ TANGI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when you take away a favorite toy, food 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ots soon after you give the student a toy, food, or activity that he or she seems to like or has requ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when the student can’t have a toy, food or activity he or she requ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behavior may b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ORY/ SELF-REGUL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ends to be performed over and over again in a rhythmic or cyclical 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ends to happen when there is either a lot going on in the area or very litt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 can still do other things at the same time as he or she is performing th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each table come up with thes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each table come up with thes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8294-37D4-4970-AEF8-F30D32ECF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082960" y="0"/>
            <a:ext cx="1930320" cy="144792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plans target specific behaviors and outline in detail the team’s responses including language and consequences and are formed in consultation with the student’s parents and educationa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hering background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about the student’s likes, dislikes, personal habits, strength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about the behavior ( when, where, purpose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about other people’s reactions (what do they do, does it wor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ruling out med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rmining the purpose of the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what message is the student sending and what purpose does it serve him/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finding alternate, more appropriate ways of saying or getting the same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Environmental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establishing clear, consistent routines and sche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adapting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teaching functional or developmentally appropriate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Positive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communication: functional, reliable ways to commun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anticipatory clues – give warnings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presenting clear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allowing for choice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desensitization and rehearsal strategies (for new places, proced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others such as relaxation training, exercise, social interaction, errorless learning to build succes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Rei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critical to use reinforcement to help students understand what behavior is des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lack of reinforcement often most common reason for behavior program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6 Reactiv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plan to deal with behavior at first sign of escalation (whining, crying, pacing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plan to handle physical acting out to keep everyone 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all caregivers trained and consist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each table come up with thes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each table come up with thes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each table come up with thes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each table come up with thes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each table come up with thes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each table come up with thes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83B-C664-42F1-BF46-9404ABFC2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D154-75AD-4DA9-B7EF-3558F1CDF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8FCD-73CE-4B05-A0F2-E89493A89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E167-DD0C-433B-AAD9-AF2CF690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7147-65E8-46F5-8D7B-3976A968C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24B4-D050-4F4F-9BC3-7A8A91E3B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12B7-E52F-470F-A04A-578AD0B69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675E-13A7-4E9B-8719-5FA49AB4E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0540-6D5B-4573-95AF-AA8B3491A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8658-2E64-41B3-BF83-5726A9BF3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A20B-3EB6-4E59-BB82-CC7021E9B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09AD-60AF-4CFB-B1FB-91549ECA4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E434-2C0B-4BAD-AD16-5844DCA1F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250B-5B4F-4F01-89AC-C5D64384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21F0-1532-48A5-BD58-695899250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D8F8-D376-4320-90FA-5EEC82989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89FA-23E6-4274-8BAD-52EBD0642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2748-5D16-4430-A56F-E8CA6CF6B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A804-8508-4A86-8675-0E43BA832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F573-C48F-496A-A63A-EA7C034B1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031840" y="685800"/>
            <a:ext cx="2337120" cy="175248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440" y="2514240"/>
            <a:ext cx="5715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ditory – are their fans, loud speakers, fire alarm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general sound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ual – consider eye level, time required to shift visual at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reliance of peripheral 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usual visual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itivity to light and 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nnel 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on eye contact but don’t expect prolong cont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tile – does the child need to explore things through touch and yet hates to be tou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the  type of touch – is it a light touch that sends him off the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deep pressure cal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te and smell – may be very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tibular – inner ear – balance – need to swing or walk with head to sid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oceptive – Muscles Joints and lig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ing body 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is your left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hard to press on a pe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’s a light tap and a hard sh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several senses – shifting from one sense to the next can be an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the experience of eating crunchy food, the taste, texture, smell and 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A73B-E9C0-4C8E-8019-B2945596E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17F5-3579-4994-8942-4B8A1EE4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BE7D-84E1-49B3-8C79-813EF1DA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ACFA-3834-4F41-95F2-63E594ED5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81E7-CF6B-4550-BFAF-499BF654E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3259-B52D-4505-96C1-9448567E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38AC-FFBA-4FFA-85BE-7BDFC661C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79A-8E34-4329-876E-89AAE42B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24B-CAD8-45D5-9B41-C499EB93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C51-FFDE-45CA-8278-B0024175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E20-D597-4FBF-9D33-3FB1CAF4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D41E-F905-4CC2-9DB2-29E150E6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DD6F-7A2D-4202-BA10-F02F149E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239C-DB68-44A9-B68E-9A336DFB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2624-EB2D-4A7B-9521-CA616E27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CF96-22B1-49FB-B7FA-074D7CE7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6379-EBC0-4CB4-B4E1-1B1EDFAC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FDD3-E25B-4444-8655-546FAD2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909-FAB9-43D7-B024-050E8CCE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9342-A338-43A7-BB92-80D97195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E332-5AE4-4C61-A14A-746CEBC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F9E6-0751-4656-9B55-D4630B20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E0F-B635-408E-AA1F-F6781DCE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B1D9-3171-42AF-B293-74A570B9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E35-DDEA-482F-8E66-CA0A032A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D7A-3ADE-440C-9644-C22597BE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98C-5832-4BF1-952C-BB82AABA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953-D341-449F-8288-6A5E4486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FB5-C86B-4722-8409-EE3CD16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187-5AE9-498D-92AF-24D095E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395-8304-4FD5-8BFC-98830E77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6041-7131-43CC-B223-DBE6711A6BD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C3EB-017B-49DE-94D9-8E46AE5FCAD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png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8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43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3366"/>
                </a:solidFill>
                <a:latin typeface="Arial"/>
              </a:rPr>
              <a:t>Overhead Slid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169640" y="102204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eaching Students with Autism Spectrum Disord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B31C-6257-4484-B558-4478469CAE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General Characteristics of AS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ommunication difficul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ocial interaction difficul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nusual behaviou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nusual patterns of atten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nusual sensory respon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nxiet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Learning difficul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17524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941-50D5-4D24-9D3C-2214CED17E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12520" y="2211120"/>
            <a:ext cx="79614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Point out </a:t>
            </a:r>
            <a:r>
              <a:rPr b="0" i="1" lang="en-CA" sz="2000" spc="-1" strike="noStrike">
                <a:solidFill>
                  <a:srgbClr val="003366"/>
                </a:solidFill>
                <a:latin typeface="Times New Roman"/>
              </a:rPr>
              <a:t>social 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informa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Look, Tommy’s waving at you. Can you wave back?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Point out </a:t>
            </a:r>
            <a:r>
              <a:rPr b="0" i="1" lang="en-CA" sz="2000" spc="-1" strike="noStrike">
                <a:solidFill>
                  <a:srgbClr val="003366"/>
                </a:solidFill>
                <a:latin typeface="Times New Roman"/>
              </a:rPr>
              <a:t>emotional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 informa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Mary got hurt. Look, she’s crying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Point out </a:t>
            </a:r>
            <a:r>
              <a:rPr b="0" i="1" lang="en-CA" sz="2000" spc="-1" strike="noStrike">
                <a:solidFill>
                  <a:srgbClr val="003366"/>
                </a:solidFill>
                <a:latin typeface="Times New Roman"/>
              </a:rPr>
              <a:t>anticipatory 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information.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Look, Joey’s going to throw the ball. Put your hands up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Structure the </a:t>
            </a:r>
            <a:r>
              <a:rPr b="0" i="1" lang="en-CA" sz="2000" spc="-1" strike="noStrike">
                <a:solidFill>
                  <a:srgbClr val="003366"/>
                </a:solidFill>
                <a:latin typeface="Times New Roman"/>
              </a:rPr>
              <a:t>commenting 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function.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Look at the bird eating the seed. He must be very hungry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Code </a:t>
            </a:r>
            <a:r>
              <a:rPr b="0" i="1" lang="en-CA" sz="2000" spc="-1" strike="noStrike">
                <a:solidFill>
                  <a:srgbClr val="003366"/>
                </a:solidFill>
                <a:latin typeface="Times New Roman"/>
              </a:rPr>
              <a:t>feelings and reactions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You are very angry that Joey took your ball. Say, “Joey, give me that ball!’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ays to Index the Environm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achtman Cullen,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B5D-7964-41A5-9140-416978E4DA4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cholal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ay have a large vocabulary in a very limited subject are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wo-way conversation may be difficul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xpressive Language Difficult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815-51AF-4319-8801-F4E378D6D7A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7315200" y="5638680"/>
            <a:ext cx="990720" cy="963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4038480" y="2238480"/>
            <a:ext cx="1005120" cy="9493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812880" y="2211480"/>
            <a:ext cx="64260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lerating other peop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ttending to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king tu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ai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itiating, responding and sustaining convers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604960" y="3930480"/>
          <a:ext cx="84960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04960" y="3930480"/>
                    <a:ext cx="8496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2075040" y="4800600"/>
          <a:ext cx="558720" cy="8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5040" y="4800600"/>
                    <a:ext cx="55872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0896480" y="6324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7"/>
          <a:stretch/>
        </p:blipFill>
        <p:spPr>
          <a:xfrm>
            <a:off x="3454560" y="3200400"/>
            <a:ext cx="987120" cy="68904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ivotal Social Language Skil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83D-834F-4FE5-9AF1-76B52C53A9FE}" type="slidenum">
              <a:t>102</a:t>
            </a:fld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nsure that a communication system is in pl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Focus on developing interactio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se clear, concise langua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llow time to process inform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each listening skills and check comprehens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se visual suppor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rovide social scripts for spoken langua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each subtleties of tone and inton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trategies to Facilitate Communic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2E8-C098-435E-A145-0927EAE3543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I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didn’t say she stole my money (but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said it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I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didn’t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say she stole my money ( I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definitely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didn’t say it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I didn’t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say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she stole my money (but I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implied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it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I didn’t say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she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stole my money (but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 someone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stole it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I didn’t say she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stole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my money (but she did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something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I didn’t say she stole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my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money (but she stole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someone else’s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I didn’t say she stole my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 money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( but she took </a:t>
            </a: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something els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prehension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one and Intonation of Languag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DAD-E168-4299-B570-CBFF312E49F6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Quill, 1995</a:t>
            </a:r>
          </a:p>
        </p:txBody>
      </p:sp>
    </p:spTree>
  </p:cSld>
  <p:transition>
    <p:zoom dir="in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4479840" y="265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o develop friendship s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o increase understanding of rules of social intera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o increase number and quality of positive social interac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ocial Interaction Goa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8D6-BA7C-4D1E-8AF7-D92975D455FB}" type="slidenum">
              <a:t>105</a:t>
            </a:fld>
          </a:p>
        </p:txBody>
      </p:sp>
    </p:spTree>
  </p:cSld>
  <p:transition>
    <p:zoom dir="in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rect teach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uppets/role-play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artoo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eer suppor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ocial scrip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ocial sto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ocial Skills Strateg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CF9-5CED-4E1D-9359-10AB506C65FD}" type="slidenum">
              <a:t>106</a:t>
            </a:fld>
          </a:p>
        </p:txBody>
      </p:sp>
    </p:spTree>
  </p:cSld>
  <p:transition>
    <p:zoom dir="in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796140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121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121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cide what social skill needs to be taugh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121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omplete a task analysi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121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dentify which steps child can d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121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Observe levels of prompting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121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hoose a direct teaching strategy such as discrete trial training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 Teach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914-13E4-4794-95AC-C82BAD5DE85F}" type="slidenum">
              <a:t>107</a:t>
            </a:fld>
          </a:p>
        </p:txBody>
      </p:sp>
    </p:spTree>
  </p:cSld>
  <p:transition>
    <p:zoom dir="in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1938240" cy="14432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3171960" cy="205128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5673600" y="2411280"/>
            <a:ext cx="1738440" cy="155124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sing Puppets, Role-playing and Videotapes to Teach Social Skill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4FE-9E85-4A18-9522-34D7EF5C5B2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rcRect l="0" t="0" r="2037" b="0"/>
          <a:stretch/>
        </p:blipFill>
        <p:spPr>
          <a:xfrm>
            <a:off x="2362320" y="2514600"/>
            <a:ext cx="4960800" cy="36036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762120" y="6400800"/>
            <a:ext cx="426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Fullerton, Stratton, Coyne &amp; Gray, (1996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artooning Social Situa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12520" y="2211120"/>
            <a:ext cx="796140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Nonverbal communication difficul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xpressive language delay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Oral language differe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Language use not for social purpo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cholalia speec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erseveration on a topi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Restricted vocabula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Difficulty with convers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omprehension difficul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DCE-42D3-4DDE-9043-76A9C007A3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12520" y="2211120"/>
            <a:ext cx="7961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ovide peers with s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be persist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give cues not answ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each communication ski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ovide cooperative learning activit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ovide support to the stud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recess budd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ncourage friendshi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eer Suppor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F61-9D51-4ED1-BD4A-AA4ED27EE01E}" type="slidenum">
              <a:t>110</a:t>
            </a:fld>
          </a:p>
        </p:txBody>
      </p:sp>
    </p:spTree>
  </p:cSld>
  <p:transition>
    <p:zoom dir="in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ocial Scrip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rcRect l="5882" t="4091" r="5882" b="85458"/>
          <a:stretch/>
        </p:blipFill>
        <p:spPr>
          <a:xfrm>
            <a:off x="2743200" y="2209680"/>
            <a:ext cx="4314960" cy="58104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2"/>
          <a:srcRect l="5882" t="24091" r="5882" b="65000"/>
          <a:stretch/>
        </p:blipFill>
        <p:spPr>
          <a:xfrm>
            <a:off x="2743200" y="3079800"/>
            <a:ext cx="4287960" cy="6015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rcRect l="5882" t="44821" r="5882" b="25000"/>
          <a:stretch/>
        </p:blipFill>
        <p:spPr>
          <a:xfrm>
            <a:off x="2741760" y="3948120"/>
            <a:ext cx="4305240" cy="16700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4"/>
          <a:srcRect l="5882" t="85004" r="5882" b="4363"/>
          <a:stretch/>
        </p:blipFill>
        <p:spPr>
          <a:xfrm>
            <a:off x="2741760" y="5896080"/>
            <a:ext cx="4295520" cy="58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8B3-A5D6-4CEF-BACD-38D20DC7C1B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troduce changes and new routin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xplain reasons for others’ behaviou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each situation-specific social skill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ssist in teaching new academic skill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reating Social Stor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3D2-EA7A-4AE4-A8E3-050C047CED8F}" type="slidenum">
              <a:t>112</a:t>
            </a:fld>
          </a:p>
        </p:txBody>
      </p:sp>
    </p:spTree>
  </p:cSld>
  <p:transition>
    <p:zoom dir="in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ssess and identify student need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Observe the specific situa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ake the perspective of the chil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rite the social stor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ad the story with the child frequentl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nhance the social story through modelling and role-playing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ocial Story Proces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48A-935C-4DCB-9805-B54F7C805B4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scriptive senten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rective senten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erspective sent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Formula for writing social sto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</a:t>
            </a: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5 descriptive or perspective statements </a:t>
            </a:r>
            <a:br>
              <a:rPr sz="2800"/>
            </a:b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+ 1 directive stat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riting Social Stor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1AE-33D6-4085-8299-F1343E9E15B6}" type="slidenum">
              <a:t>114</a:t>
            </a:fld>
          </a:p>
        </p:txBody>
      </p:sp>
    </p:spTree>
  </p:cSld>
  <p:transition>
    <p:zoom dir="in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812520" y="2211120"/>
            <a:ext cx="79614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ometimes  a person says, “I’ve changed my mind.”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CA" sz="2400" spc="-1" strike="noStrike">
                <a:solidFill>
                  <a:srgbClr val="003366"/>
                </a:solidFill>
                <a:latin typeface="Times New Roman"/>
              </a:rPr>
              <a:t>Descriptive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hat means he had one idea, but now he has a new idea.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CA" sz="2400" spc="-1" strike="noStrike">
                <a:solidFill>
                  <a:srgbClr val="003366"/>
                </a:solidFill>
                <a:latin typeface="Times New Roman"/>
              </a:rPr>
              <a:t>Descriptive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 will work on staying calm when someone changes their mind.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CA" sz="2400" spc="-1" strike="noStrike">
                <a:solidFill>
                  <a:srgbClr val="003366"/>
                </a:solidFill>
                <a:latin typeface="Times New Roman"/>
              </a:rPr>
              <a:t>Directive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 can think of someone writing something down, scratching it out and writing something new.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CA" sz="2400" spc="-1" strike="noStrike">
                <a:solidFill>
                  <a:srgbClr val="003366"/>
                </a:solidFill>
                <a:latin typeface="Times New Roman"/>
              </a:rPr>
              <a:t>Directive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ocial Story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en I Change My Min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66D-5A83-4A6A-A989-1DCA14887F58}" type="slidenum">
              <a:t>115</a:t>
            </a:fld>
          </a:p>
        </p:txBody>
      </p:sp>
    </p:spTree>
  </p:cSld>
  <p:transition>
    <p:zoom dir="in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ocial Story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ating Lunch at Schoo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2360" indent="-34236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times I eat lunch at school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Descriptiv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2360" indent="-34236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ople feel comfortable when I eat my food nicely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Perspectiv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2360" indent="-34236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ther kids will think I’m friendly when I wait for them to sit down and get their lunch before I start eating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Perspectiv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2360" indent="-34236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 will try to chew my food slowly with my mouth closed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Directiv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2360" indent="-34236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n I eat slowly with my mouth closed, people will be happy to sit at the same table with me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Perspectiv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148-C933-49AC-A0F2-A852DA5A7586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rite a Social 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skill/task does your student need that can be taught through a social story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ith a partner, do a task analysis on the social skil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rite the social stor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8A5-84B4-459A-9E58-BBDBFDB5A32C}" type="slidenum">
              <a:t>117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519120" indent="-51912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How is a behaviour intervention plan developed and implemented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519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519120" indent="-51912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How can precision teaching enhance learning and decrease problematic behaviour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ocus Questions</a:t>
            </a:r>
            <a:br>
              <a:rPr sz="44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art Fou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AD5-365A-469F-A323-DB23A6AFB9F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velop self-contr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crease positive behaviou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crease negative behaviou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duce anxie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Follow specific school routi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ehaviour Goa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43B-BD28-465E-ADE2-61EA9A6B97C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ocial Interac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stablishing and maintaining relationshi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laying with oth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aking turns and shar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heory of mind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nderstanding other perspe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making sense of social behaviou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making sense of feelings and emo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making sense of commun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B69-1036-4B90-A8F7-2D94FAA82A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termine which behaviour to targe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termine the function of the behaviou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mplement positive, proactive strateg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laying Behaviour Detectiv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890-A9A3-421F-9D28-79FDB37C3751}" type="slidenum">
              <a:t>120</a:t>
            </a:fld>
          </a:p>
        </p:txBody>
      </p:sp>
    </p:spTree>
  </p:cSld>
  <p:transition>
    <p:zoom dir="in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Determine which behaviour to targe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8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ssess function and contributing facto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8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dentify alternate or incompatible behaviou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8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Develop strategies to increase positive behaviou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8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Develop strategies to decrease negative behaviou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8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reate a behaviour support pla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rogramming for Challenging Behaviou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8F3-45DA-4B32-BB82-3F7CD9AFC7D2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termining Which Behaviour to Targe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s it life threaten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oes it pose a health risk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oes it interfere with learn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s it likely to become more seriou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Has it been a problem for some tim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oes it interfere with acceptanc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79F-4011-4500-BD6B-C6B5D76D12B7}" type="slidenum">
              <a:t>122</a:t>
            </a:fld>
          </a:p>
        </p:txBody>
      </p:sp>
    </p:spTree>
  </p:cSld>
  <p:transition>
    <p:zoom dir="in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rcRect l="3693" t="11236" r="7386" b="14709"/>
          <a:stretch/>
        </p:blipFill>
        <p:spPr>
          <a:xfrm>
            <a:off x="2743200" y="2743200"/>
            <a:ext cx="4133880" cy="29383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ehaviour is Communic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D47-5F19-452C-BC6C-E0521991B87C}" type="slidenum">
              <a:t>123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812880" y="2211480"/>
            <a:ext cx="79614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e need to understand WHY the behaviour is occurring BEFORE we can properly respond to the behaviou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termine the Functions of the Behaviou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9104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6" name="j0078703" descr=""/>
          <p:cNvPicPr/>
          <p:nvPr/>
        </p:nvPicPr>
        <p:blipFill>
          <a:blip r:embed="rId1"/>
          <a:stretch/>
        </p:blipFill>
        <p:spPr>
          <a:xfrm>
            <a:off x="4038480" y="3809880"/>
            <a:ext cx="1447920" cy="24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9AE-EC26-41C6-AF2A-C2094FF384D0}" type="slidenum">
              <a:t>124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3366"/>
                </a:solidFill>
                <a:latin typeface="Arial"/>
              </a:rPr>
              <a:t>Activity 13: Brainstorm Possible</a:t>
            </a:r>
            <a:br>
              <a:rPr sz="3600"/>
            </a:br>
            <a:r>
              <a:rPr b="0" lang="en-CA" sz="3600" spc="-1" strike="noStrike">
                <a:solidFill>
                  <a:srgbClr val="003366"/>
                </a:solidFill>
                <a:latin typeface="Arial"/>
              </a:rPr>
              <a:t>Functions of Behaviou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9B6-60DE-4172-A4BC-80DF24E1A9C9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on Functions of Behaviou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tten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scape/avoida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Getting someth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ensory/self-regul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rcRect l="14772" t="3030" r="14772" b="2162"/>
          <a:stretch/>
        </p:blipFill>
        <p:spPr>
          <a:xfrm>
            <a:off x="5337000" y="2514600"/>
            <a:ext cx="2524320" cy="28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0AB-6E20-4412-AC06-2F28390D0074}" type="slidenum">
              <a:t>1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Functional Behaviour Assessmen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ata Collec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Behavioural observ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otivation Assessment Sca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572-D50B-4066-9D75-FED88B3FCD4D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1295280" y="2514600"/>
          <a:ext cx="7162920" cy="381168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880"/>
              </a:tblGrid>
              <a:tr h="155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ime: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tting: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ocial situation: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ntecedent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ehaviou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BC Observ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F50-6815-46FE-8C7B-18E8AE8EE91B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Motivation Assessment Sca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016080" y="2238480"/>
          <a:ext cx="3738600" cy="43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080" y="2238480"/>
                    <a:ext cx="37386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446-65A5-4DBD-B0F2-2CA5AD292B93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lications for Instruction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as and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288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ial intera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847-A101-4F75-B473-D4E691DE9D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en the Behaviour is Motivated by Atten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e attention to the behaviou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 positive ways of getting atten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 appropriate communica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EC3-213A-49EA-A926-282F2A9C23EF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en the Behaviour is Motivated by Tangib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 appropriate communica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inforce communica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crease cho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BE4-9C90-4363-ABFC-7E3208D9E575}" type="slidenum">
              <a:t>131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en the Behaviour is Motivated by Avoidan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, “I want a break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 to communicate, “no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crease choi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actice relaxation and anxiety reduc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odify demand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848-B788-4D3E-803B-55EF25654F52}" type="slidenum">
              <a:t>132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en the Behavior is Motivated by a Sensory Nee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crease sensory suppor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place with alternative activit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 student to make requests for sensory preferenc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CF2-4E83-4834-A77C-C2A7C0DA34DB}" type="slidenum">
              <a:t>133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crease Positive Behaviou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vironmental adapt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ositive/proactive approach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inforc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578-6340-4CDB-86E9-B7A86552C27B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aterial reinforc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imary/edible reinforc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ctivity reinforc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ocial reinforc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ensory reinforc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xchangeable reinforcers – token econom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ypes of Reinforc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682-0459-47C6-8283-BBD3FBD5635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1600200" y="2438280"/>
          <a:ext cx="6553080" cy="3929040"/>
        </p:xfrm>
        <a:graphic>
          <a:graphicData uri="http://schemas.openxmlformats.org/drawingml/2006/table">
            <a:tbl>
              <a:tblPr/>
              <a:tblGrid>
                <a:gridCol w="2184480"/>
                <a:gridCol w="2184480"/>
                <a:gridCol w="2184120"/>
              </a:tblGrid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k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lik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ifferent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nsory stimuli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nsory stimuli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nsory stimuli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dibl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dibl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dibl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ocial reinfor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ocial reinfor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ocial reinfor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Reinforcemen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E74-4527-4682-B9E4-747609645F99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1447920" y="2362320"/>
          <a:ext cx="6858000" cy="4038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ary/edibl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cial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nsory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changeable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ken Econom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dentify Reinforc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995-12DF-4606-9EFB-CAFFBA050DF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812520" y="2211120"/>
            <a:ext cx="79614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ry proactive strategies firs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dentify the least restrictive strateg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velop planned response within the team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ecrease Negative Behaviou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8B1-7D55-4217-8C10-4E246CFE3FB3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ducing attention to the behaviou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moval from reinforcements or timeou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hree Reactive Strateg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FCD-BD8B-443A-9F98-D01C8A3CC72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lications for Instruction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as and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12520" y="2211120"/>
            <a:ext cx="79614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 algn="ctr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struction based on assessment resul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struction should emphasiz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aying atten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mita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omprehending words and instr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sing language for social reas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developing functional commun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46B-DF00-462D-A63D-DD1B645D3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Helping Develop Self-contro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dentify the interfering behaviou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bserve the antecedents to the behaviou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cide on appropriate reinforc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vide the student with visuals of the antecedent, desired behaviour and reinforc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hearse the sce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port the student in the situation by using the visual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347-F979-4E66-9AA8-CB811E25CF54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828800" y="2311560"/>
            <a:ext cx="1700280" cy="170784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6400800" y="2514600"/>
            <a:ext cx="1454040" cy="15127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1066680" y="40384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ntecedent:  Walking by other students in the classroo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486400" y="40384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sired behaviour:  Going to desk and reading quietl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3"/>
          <a:stretch/>
        </p:blipFill>
        <p:spPr>
          <a:xfrm>
            <a:off x="4038480" y="4800600"/>
            <a:ext cx="1700280" cy="116064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895480" y="598644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inforcement:  Personal music ti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veloping Self-control in the Classroo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987-2A07-4726-9653-2FB59EE8202A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066680" y="297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ehaviour Support Pla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Key understanding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ntecedent ev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Warning sig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mmediate meas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ositive behaviour suppor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ssistance from pe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Reactive p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igna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34F-ACA5-403E-8C5F-B148E7132465}" type="slidenum">
              <a:t>142</a:t>
            </a:fld>
          </a:p>
        </p:txBody>
      </p:sp>
    </p:spTree>
  </p:cSld>
  <p:transition>
    <p:zoom dir="in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7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7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ctivity 15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PP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–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Part Thre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ommunication obje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ommunication strate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ocial interaction obje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ocial interaction strate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Behaviour obje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Behaviour strate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952-3057-4D97-9BEF-4F7E6454EB71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3366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293-300C-4405-8BCA-DF07B66CF43B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lications for Instruction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as and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Social Intera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Social Skill Develop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olerating others in own sp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mitating the actions/vocalizations of oth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ngaging in parallel activ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aking tur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sing eye contac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xplicitly teach theory of mind concep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842-E5F2-469F-95D5-EE6E94E828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Unusual Behaviou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Diagnostic crite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reoccupation with patterns of intere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inflexible adherence to routi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repetitive motor manneris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reoccupation with parts of object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nusual response to sensory stimul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hallenging aggressive destructive behaviou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Behaviours are the tip of the iceberg.  It is essential to del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3366"/>
                </a:solidFill>
                <a:latin typeface="Times New Roman"/>
              </a:rPr>
              <a:t>below the surface to identify the message of the behaviou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DB0-050F-43C0-AFA5-792760A774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timulus overselectiv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mpairment in joint atten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fficulty disengaging and shifting atten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hort attention sp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Unusual Patterns of Atten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81F-1012-4B1E-BDA8-655D9C2058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ensory Characteristic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Often hypersensitive or hyposensitive t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spcBef>
                <a:spcPts val="876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act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udito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visual and olfacto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olfacto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gustato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vestibular and propriocep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47A-25F8-4C0F-B4FF-7F971C6AD4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xiety Characteristic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fficulty regulating emo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ability to express oneself clear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ensory processing nee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High need for predictabi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fficulty understanding social situ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48D-733F-4D85-BF5F-9FCD10857E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estions I have about teaching students with autism spectrum disord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763-C52A-4D0A-8AE8-8257A260AD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lications for Instruction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as and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Unusual behaviou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tten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ensory respons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3A4-E624-4D36-BA67-B1E7CC5359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lications for Instruction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as and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Unusual or Challenging Behaviou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eaching students new skills and interes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nderstanding responses to sensory stimul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reparing the student for planned chang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Developing calming strate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ssisting the student to monitor level of arousal or anxie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dapting the learning environ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7CD-0E38-4FAE-97F3-9D9B0B46F1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lications for Instruction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as and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3828600"/>
            <a:ext cx="7958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s clear and conci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s consistent with comprehension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focuses their atten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mphasizes the most relevant inform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12880" y="2211480"/>
            <a:ext cx="7961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Patterns of Atten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nformation and instructional activities should be provided in a format th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118-DDED-463B-AED8-ECA2208066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79614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Sensory Respon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ssess sensory respons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Be aware of different experiences of sensory stimul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se alerting strategies to help enhance students when hyposensitiv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mplement strategies to calm students when hypersensitiv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lications for Instruction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as and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C4A-7333-454C-82E1-CABF789EAD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79614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Anxie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rovide warnings about transitions and chang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rovide daily and weekly schedu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se social scripts to encourage calming and teach coping skill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rovide facts about anxiety-arousing situa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stablish a calming are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lications for Instruction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as and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404-434A-465F-80DD-7B713E9DBC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ho should be involved in the development of an individualized program plan (IPP)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hat are the roles and responsibilities of each participant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How can the collaborative team best communicate, problem-solve and plan for transition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ocus Question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art Tw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C0A-9861-42FC-99B1-331270D463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706320"/>
            <a:ext cx="73785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Individualized Program Plan Proces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Gathering inform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33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etting the direction for the IP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33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veloping the IP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33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mplementing the IP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33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viewing the IP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05B-3F12-4512-A070-8C3DBE8B69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ersonal and educational dat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trengths and nee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Long-term go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hort-term obje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trategies and accommodation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ransition pla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How progress will be evalua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ssignment of responsibi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rocess for review and evalu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ponents of Effective IPP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87C-0B72-4655-B691-0316112A1B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Uneven cognitive prof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ficits in attending to relevant cu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Language impair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fficulties with abstract reaso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lanning, organizing and problem solv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trong rote memory and visual spatial s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Learning Characteristic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DC0-2C32-4B62-B4DE-08EDC835F6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lications for Instruction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as and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9640" y="3947760"/>
            <a:ext cx="795816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organization s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oblem-solving s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visual cues and remind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oncrete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2880" y="2303640"/>
            <a:ext cx="79614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struction should be based on assessment results and emphasiz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75D-7853-434D-87F5-A22C7ED3FC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hat are the general areas of delays and concerns that characterize individuals with autistic spectrum disorders?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How do the characteristics of autism spectrum disorders impact teaching and learn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ocus Question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art On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FAF-30CC-45CA-B116-369FFD6C78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hat are the elements that lead to successful home and school collaboration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DCC-0DBE-49F1-A78D-36F0EB81AF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Gathering relevant background informatio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aintaining communi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lanning problem-solving and decision-mak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goals and obje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lac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ransition pla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oordinating resour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llaborating with Paren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557-64A2-412B-8A6A-BF27A59D49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What information needs to be gathered?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What planning, problem-solving and/or decision-making needs to take place at this tim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How will goals and objectives be addressed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Is placement an issue at this time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What transition plans are necessary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Which resources and professionals should be involved?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Who should be invited to participate in the meeting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lanning a Collaborative Mee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F08-7C51-4709-A7B6-4F5C099CAF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ntroduction of participa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urpose of the mee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haring new informa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What’s work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Concerns/iss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Brainstorm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Wh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Review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evelop an Agend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C09-8E4B-44E5-9098-06306AE5AC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et a positive tone, introductions, logistic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Give each participant the opportunity to sha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Brainstorm possible op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ummarize the discussion and review plan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stablish plans and times for follow-up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nducting a Successful Collaboration Mee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8AF-B4C8-4129-89DD-1A191050D1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PP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Arial"/>
              </a:rPr>
              <a:t>– Part One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Group Activit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Group Number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Name of stud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trengths and nee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Long-term go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hort-term objecti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6A9-3AAF-4AD4-A0E2-4AA45D573E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hat worked wel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86252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hat would you change for next tim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llaboration Meeting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ole-pla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286000"/>
            <a:ext cx="0" cy="41133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03C-12FA-47BD-893D-E10F57552A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ransition Strategi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tarting Off on the Right Foo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eacher prepar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eparing the stud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eparing the classro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omoting understand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805-68D3-48BF-AC00-D1334851FF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Visit student in current setting to observ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behaviou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lassroom routine and organization struc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uccessful adaptations and modific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visual systems used to support the stu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ffective instructional strate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tudent’s level of particip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ransition Strategi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reparing the Teacher and Staff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E58-9BF4-4D17-BF8A-67C7A0A652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eet with sending staff to exchange information about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ffective ways to motivate stu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tudent’s likes and dislik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ensory-related iss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ffective behaviour management strategies and/or Behaviour Support P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relevant health iss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eet with par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ransition Strategi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reparing the Teacher and Staff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6F9-E331-46A9-84A5-48F63370A8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re complex, neurological disorders that affect the functioning of the brai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an be present in a variety of combinations and may accompany other disabiliti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7591320" indent="0"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utism Spectrum Disord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AED-C6BA-459E-B685-EAB25EB8C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Student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Date of birth/ag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Family situation (e.g., parents, siblings, involvement of extended family, how does the child relate to his family, etc.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Diagnosis (how did the diagnosis come about, who diagnosed the child, concerns about the diagnosis)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Parent concerns and expectation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Interventions (e.g., Early Intervention Programming, therapies, etc.)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What types of supports and therapies are currently in place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What type of involvement does the child have in the community (e.g., sports, religious school, other outside activities)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What works at home and in other settings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What worked at previous school setting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Specific concerns or issues to be aware of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Understanding Your Stud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F59-4913-4A41-838C-4F8BE72B3F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Use videotapes or pictures of new teacher and classroom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epare scrapbook or social story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lan visit or visits to future classroom with familiar pers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lan preferred activities for student in new setting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epare a calendar for studen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ransition Strategi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reparing the Studen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EA4-08B1-42A6-943A-9628D95DE6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dentify key people for stud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ssign an adult ment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rovide training in how to use lock and lock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Enlist the assistance of pe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Develop a plan/script for handling teasin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reate a homework pla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each specific skills necessary for new settin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Arial"/>
              </a:rPr>
              <a:t>Transition Strategies </a:t>
            </a:r>
            <a:r>
              <a:rPr b="0" lang="en-US" sz="3400" spc="-1" strike="noStrike">
                <a:solidFill>
                  <a:srgbClr val="003366"/>
                </a:solidFill>
                <a:latin typeface="Arial"/>
                <a:ea typeface="Arial"/>
              </a:rPr>
              <a:t>– Preparing the Student for Junior and Senior High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7A0-23CE-42DE-B2A3-3109652A51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onsider desk positio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to facilitate atten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to ensure that teacher assistant is unobtrusiv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onsider sensory issu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onsider possible distrac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Define specific spaces for specific purposes such 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calming are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individual learning are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ransition Strategi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assroom Accommo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D42-9132-4CFE-A6F9-C8407447EF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rovide an in-school mento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Organizational supp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Modified academic deman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llow more time for cognitive process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Homework support and modif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ccommodate for sensory nee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dentify safe, calming area for stu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ransition Strategies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– Junior and Senior High Accommo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662-750D-46BD-8947-CAD4D8CB7C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812520" y="2211120"/>
            <a:ext cx="7961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member that students mirror the teacher’s attitud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ddress concerns, questions and  misconcep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vite guest speake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Use activities to foster awareness and understanding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oach peers to be effective partne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ransition Strategi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reparing Classma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894-040E-4C42-9459-0FB2425C47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ollaborate with parents, community agencies, support services and studen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velop transition goal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each specific skills necessary for new setting.</a:t>
            </a:r>
            <a:br>
              <a:rPr sz="3200"/>
            </a:b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ransition to Adult Lif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B9B-718B-4A46-95C1-6DB444671E8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Visual suppor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tructuring the enviro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structional Approaches and Accommo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971-F7BE-4FDC-98DD-2FCD21CA72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chedules </a:t>
            </a:r>
            <a:r>
              <a:rPr b="0" i="1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no surpris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sual rules </a:t>
            </a:r>
            <a:r>
              <a:rPr b="0" i="1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what are the rules toda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sual tools to organize </a:t>
            </a:r>
            <a:r>
              <a:rPr b="0" i="1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material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ocial experiences </a:t>
            </a:r>
            <a:r>
              <a:rPr b="0" i="1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solving problem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ependence</a:t>
            </a:r>
            <a:r>
              <a:rPr b="0" i="1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theme boards and cu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sual bridges </a:t>
            </a:r>
            <a:r>
              <a:rPr b="0" i="1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communicating about lif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ehaviour tools </a:t>
            </a:r>
            <a:r>
              <a:rPr b="0" i="1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anxiety</a:t>
            </a:r>
            <a:r>
              <a:rPr b="1" i="1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C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d relaxatio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 Suppor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7FA-52C5-4461-846C-80BFAA5DEFA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1940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8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8" name="mp39" descr=""/>
          <p:cNvPicPr/>
          <p:nvPr/>
        </p:nvPicPr>
        <p:blipFill>
          <a:blip r:embed="rId1"/>
          <a:stretch/>
        </p:blipFill>
        <p:spPr>
          <a:xfrm>
            <a:off x="990720" y="2805120"/>
            <a:ext cx="2876400" cy="1009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990720" y="2494080"/>
            <a:ext cx="287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Example of a weekly schedul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860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1" name="hp30" descr=""/>
          <p:cNvPicPr/>
          <p:nvPr/>
        </p:nvPicPr>
        <p:blipFill>
          <a:blip r:embed="rId2"/>
          <a:stretch/>
        </p:blipFill>
        <p:spPr>
          <a:xfrm>
            <a:off x="1066680" y="4495680"/>
            <a:ext cx="2772000" cy="2067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066680" y="4157640"/>
            <a:ext cx="277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Example of a daily schedul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4" name="hp32" descr=""/>
          <p:cNvPicPr/>
          <p:nvPr/>
        </p:nvPicPr>
        <p:blipFill>
          <a:blip r:embed="rId3"/>
          <a:srcRect l="0" t="2298" r="976" b="0"/>
          <a:stretch/>
        </p:blipFill>
        <p:spPr>
          <a:xfrm>
            <a:off x="4495680" y="2514600"/>
            <a:ext cx="1914480" cy="1600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203720" y="217476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Example of a group schedul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040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7" name="hp50" descr=""/>
          <p:cNvPicPr/>
          <p:nvPr/>
        </p:nvPicPr>
        <p:blipFill>
          <a:blip r:embed="rId4"/>
          <a:stretch/>
        </p:blipFill>
        <p:spPr>
          <a:xfrm>
            <a:off x="4495680" y="4800600"/>
            <a:ext cx="1886040" cy="16732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495680" y="430524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Example of a visual chore char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01940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20" name="hp40" descr=""/>
          <p:cNvPicPr/>
          <p:nvPr/>
        </p:nvPicPr>
        <p:blipFill>
          <a:blip r:embed="rId5"/>
          <a:stretch/>
        </p:blipFill>
        <p:spPr>
          <a:xfrm>
            <a:off x="7391520" y="3276720"/>
            <a:ext cx="857160" cy="3000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01940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81680" y="251460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Example of a simple visual schedule to support arrival routi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 Schedu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68E-F642-4957-A57C-E2BD48F98E3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utism Spectrum Disord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12520" y="5100120"/>
            <a:ext cx="7961400" cy="14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mpairments in social behaviou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unication difficul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ereotypic or unusual behaviou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73080" y="3400560"/>
            <a:ext cx="21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Autistic Disord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21200" y="4121280"/>
            <a:ext cx="413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Childhood Disintegrative Disord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38847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Rett’s Disord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456084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Pervasive Developmental Disorder Not Otherwise Specifie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67280" y="3610080"/>
            <a:ext cx="287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Asperger’s Disord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1981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678040" y="2147760"/>
            <a:ext cx="2551320" cy="24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C78-1D09-4C05-8A57-12AC7FD30C3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 Schedul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sk Strip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rcRect l="0" t="0" r="0" b="25835"/>
          <a:stretch/>
        </p:blipFill>
        <p:spPr>
          <a:xfrm>
            <a:off x="1600200" y="2590920"/>
            <a:ext cx="6554880" cy="36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7C8-5A67-4C7D-BD0C-CDC51E7818A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rcRect l="0" t="0" r="0" b="3335"/>
          <a:stretch/>
        </p:blipFill>
        <p:spPr>
          <a:xfrm>
            <a:off x="2209680" y="2438280"/>
            <a:ext cx="5405400" cy="39196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 Schedul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ritten Remind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7AE-ECD9-4D49-9B9E-376A05DD41A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600" y="6123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Visual Ru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12880" y="2286000"/>
            <a:ext cx="796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alking in the h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rcRect l="27074" t="23392" r="51472" b="63866"/>
          <a:stretch/>
        </p:blipFill>
        <p:spPr>
          <a:xfrm>
            <a:off x="4203720" y="2833560"/>
            <a:ext cx="1243080" cy="8096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812880" y="3911760"/>
            <a:ext cx="7961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ands to yoursel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rcRect l="25971" t="44920" r="50369" b="39468"/>
          <a:stretch/>
        </p:blipFill>
        <p:spPr>
          <a:xfrm>
            <a:off x="4249800" y="4341960"/>
            <a:ext cx="1096920" cy="7952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rcRect l="17159" t="68889" r="26758" b="11193"/>
          <a:stretch/>
        </p:blipFill>
        <p:spPr>
          <a:xfrm>
            <a:off x="3505320" y="5562720"/>
            <a:ext cx="2614320" cy="1017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262320" y="5191200"/>
            <a:ext cx="29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alk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n’t ru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110-CC10-4B80-A83E-0964CB04DEB1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71600" y="6123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Visual Ru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73836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2414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236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43200" y="13716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12880" y="2211480"/>
            <a:ext cx="796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sking for hel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rcRect l="26291" t="11344" r="25629" b="75761"/>
          <a:stretch/>
        </p:blipFill>
        <p:spPr>
          <a:xfrm>
            <a:off x="4276800" y="3152880"/>
            <a:ext cx="1297080" cy="573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244680" y="2814480"/>
            <a:ext cx="32004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When I don’t know what to d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 can raise my han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 get help, then I practic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 can do it.  I feel good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rcRect l="28787" t="37474" r="53747" b="47805"/>
          <a:stretch/>
        </p:blipFill>
        <p:spPr>
          <a:xfrm>
            <a:off x="4267080" y="4048200"/>
            <a:ext cx="473040" cy="650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rcRect l="15808" t="63304" r="33779" b="24307"/>
          <a:stretch/>
        </p:blipFill>
        <p:spPr>
          <a:xfrm>
            <a:off x="4038480" y="4981680"/>
            <a:ext cx="1379520" cy="5572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rcRect l="20801" t="87811" r="24463" b="0"/>
          <a:stretch/>
        </p:blipFill>
        <p:spPr>
          <a:xfrm>
            <a:off x="3886200" y="5867280"/>
            <a:ext cx="1476360" cy="5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78D-0AA0-4E76-B5F8-A112F7DB2A4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Visuals to Organize Independent Work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2895480" y="2438280"/>
          <a:ext cx="3935520" cy="39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38280"/>
                    <a:ext cx="3935520" cy="39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E57-F39B-42CC-A6AB-5A7F9211C76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Visuals to Organize Class Discuss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514600" y="2438280"/>
          <a:ext cx="5018040" cy="39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501804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640-6C16-445B-A902-F0893344CD3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12880" y="3043080"/>
            <a:ext cx="79614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ad a paragraph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k yourself questions – What did I just read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raphrase – Put it in your own word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12880" y="2211480"/>
            <a:ext cx="796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AP Strateg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s to Organize Read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F3F-F24B-4BA7-AAB1-787CCBA8A97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Visuals to Organize Writing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Linear Outlin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590920" y="2257560"/>
          <a:ext cx="45100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57560"/>
                    <a:ext cx="45100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914400" y="6307200"/>
            <a:ext cx="7391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From Alberta Learning, </a:t>
            </a:r>
            <a:r>
              <a:rPr b="0" i="1" lang="en-US" sz="1400" spc="-1" strike="noStrike">
                <a:solidFill>
                  <a:srgbClr val="003366"/>
                </a:solidFill>
                <a:latin typeface="Times New Roman"/>
              </a:rPr>
              <a:t>Make School Work for You: A Resource for Junior and Senior High Students Who Want to be More Successful Learners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(Edmonton, AB:  Alberta Learning, 2001), p. 9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60D-086A-446C-84E5-20B163624B2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rcRect l="3473" t="24003" r="25176" b="9144"/>
          <a:stretch/>
        </p:blipFill>
        <p:spPr>
          <a:xfrm>
            <a:off x="2895480" y="3581280"/>
            <a:ext cx="3756240" cy="26719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812880" y="2303640"/>
            <a:ext cx="7961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en someone says “Hi” to me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say “Hi” ba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s to Aid Social Experien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593-C6BC-4F97-B08E-6119EEC9E14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6123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Visuals to Aid Socializ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2880" y="2211480"/>
            <a:ext cx="7961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n I Want to Tell a  Jo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23880" y="2833560"/>
            <a:ext cx="51818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I look at the other pers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I ask, “Do you want to hear a joke?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If they say, “Yes,” I star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If it’s a riddle, I ask the ques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I wait for the other person to find an answ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When the other person says, “I don’t know,” or doesn’t answer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I tell them the answ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rcRect l="57136" t="19375" r="26442" b="75353"/>
          <a:stretch/>
        </p:blipFill>
        <p:spPr>
          <a:xfrm>
            <a:off x="4614840" y="2878200"/>
            <a:ext cx="673200" cy="236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rcRect l="78230" t="27269" r="5509" b="59995"/>
          <a:stretch/>
        </p:blipFill>
        <p:spPr>
          <a:xfrm>
            <a:off x="5556240" y="3235320"/>
            <a:ext cx="666720" cy="5716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rcRect l="52259" t="37027" r="31951" b="50520"/>
          <a:stretch/>
        </p:blipFill>
        <p:spPr>
          <a:xfrm>
            <a:off x="4614840" y="3738600"/>
            <a:ext cx="647640" cy="558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rcRect l="74295" t="45355" r="18101" b="42197"/>
          <a:stretch/>
        </p:blipFill>
        <p:spPr>
          <a:xfrm>
            <a:off x="5429160" y="4249800"/>
            <a:ext cx="312840" cy="558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/>
          <a:srcRect l="88461" t="57696" r="3935" b="33298"/>
          <a:stretch/>
        </p:blipFill>
        <p:spPr>
          <a:xfrm>
            <a:off x="6705720" y="4876920"/>
            <a:ext cx="312480" cy="4046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6"/>
          <a:srcRect l="88461" t="57696" r="3935" b="33298"/>
          <a:stretch/>
        </p:blipFill>
        <p:spPr>
          <a:xfrm>
            <a:off x="6781680" y="5486400"/>
            <a:ext cx="312840" cy="4046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7"/>
          <a:srcRect l="52259" t="37027" r="31951" b="50520"/>
          <a:stretch/>
        </p:blipFill>
        <p:spPr>
          <a:xfrm>
            <a:off x="4267080" y="6095880"/>
            <a:ext cx="648000" cy="5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A59-C642-4384-99B1-37145ECB122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123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Social Impairmen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Multiple nonverbal behaviou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eye-to-eye gazes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facial expres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body pos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eer relations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pontaneous seeking of oth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ocial or emotional reciproc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68F-B421-4145-8AD7-D14C3815CDED}" type="slidenum">
              <a:t>6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Visuals to Support Independen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12880" y="2303640"/>
            <a:ext cx="7961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omic Sans MS"/>
              </a:rPr>
              <a:t>Getting Ready for Math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You Ne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Pencils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Math notebo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uler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Math bo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rcRect l="3464" t="27986" r="73669" b="53531"/>
          <a:stretch/>
        </p:blipFill>
        <p:spPr>
          <a:xfrm>
            <a:off x="2979720" y="3886200"/>
            <a:ext cx="1022400" cy="9050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rcRect l="46434" t="29851" r="37938" b="53102"/>
          <a:stretch/>
        </p:blipFill>
        <p:spPr>
          <a:xfrm>
            <a:off x="5410080" y="3886200"/>
            <a:ext cx="739800" cy="8888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rcRect l="6296" t="60566" r="70992" b="24398"/>
          <a:stretch/>
        </p:blipFill>
        <p:spPr>
          <a:xfrm>
            <a:off x="2987640" y="5562720"/>
            <a:ext cx="1006560" cy="7268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rcRect l="43918" t="60278" r="34158" b="24686"/>
          <a:stretch/>
        </p:blipFill>
        <p:spPr>
          <a:xfrm>
            <a:off x="5105520" y="5519880"/>
            <a:ext cx="971280" cy="72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4ED-88F4-46AB-8798-BF2D3D75898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752480" y="2362320"/>
            <a:ext cx="6096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812520" y="2209320"/>
            <a:ext cx="796140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3366"/>
                </a:solidFill>
                <a:latin typeface="Arial"/>
              </a:rPr>
              <a:t>What to do Before Class is Over</a:t>
            </a:r>
            <a:r>
              <a:rPr b="0" lang="en-C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heck agend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rite down new assignmen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Get materials for homework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sk for help if you don’t understand or can’t find the material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dependen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0E0-0932-48F3-88FA-57B6FC945F24}" type="slidenum">
              <a:t>61</a:t>
            </a:fld>
          </a:p>
        </p:txBody>
      </p:sp>
    </p:spTree>
  </p:cSld>
  <p:transition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 Bridg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38320" y="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4" name="visual1" descr=""/>
          <p:cNvPicPr/>
          <p:nvPr/>
        </p:nvPicPr>
        <p:blipFill>
          <a:blip r:embed="rId1"/>
          <a:srcRect l="1080" t="995" r="0" b="1990"/>
          <a:stretch/>
        </p:blipFill>
        <p:spPr>
          <a:xfrm>
            <a:off x="3505320" y="2362320"/>
            <a:ext cx="3163680" cy="42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7EE-8474-4F45-9250-8E0FC6A14B7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rcRect l="21251" t="20835" r="25627" b="15835"/>
          <a:stretch/>
        </p:blipFill>
        <p:spPr>
          <a:xfrm>
            <a:off x="2895480" y="2590920"/>
            <a:ext cx="4086360" cy="365436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 Bridg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chool/Hom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1F8-9A90-4F9F-A48C-9FA85015521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815000" y="3808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rcRect l="8749" t="2500" r="5002" b="2500"/>
          <a:stretch/>
        </p:blipFill>
        <p:spPr>
          <a:xfrm>
            <a:off x="2514600" y="2362320"/>
            <a:ext cx="4794120" cy="39621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 Bridge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me/Schoo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23D-5684-4316-B1C6-B6A48BA9ECB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371600" y="6123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Behaviour Too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12880" y="2211480"/>
            <a:ext cx="79614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When It’s Too Nois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t’s too noisy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 can put on headpho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’m happy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t’s quiet now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25295" t="15510" r="33281" b="63816"/>
          <a:stretch/>
        </p:blipFill>
        <p:spPr>
          <a:xfrm>
            <a:off x="4249800" y="3216240"/>
            <a:ext cx="1049400" cy="8874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rcRect l="25295" t="46632" r="33281" b="32397"/>
          <a:stretch/>
        </p:blipFill>
        <p:spPr>
          <a:xfrm>
            <a:off x="4232160" y="4386240"/>
            <a:ext cx="1049400" cy="8906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rcRect l="23795" t="78541" r="35777" b="0"/>
          <a:stretch/>
        </p:blipFill>
        <p:spPr>
          <a:xfrm>
            <a:off x="4267080" y="5757840"/>
            <a:ext cx="1025640" cy="9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15F-7861-48DC-8243-B0AF46B8111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rcRect l="9488" t="30639" r="0" b="0"/>
          <a:stretch/>
        </p:blipFill>
        <p:spPr>
          <a:xfrm>
            <a:off x="1176480" y="3673440"/>
            <a:ext cx="2728800" cy="1540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5465880" y="3152880"/>
            <a:ext cx="2338200" cy="1990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812880" y="2211480"/>
            <a:ext cx="796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hen I’m Stress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04760" y="5164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’m stressed !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5164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 take 5 deep breath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06800" y="4195800"/>
            <a:ext cx="1981080" cy="0"/>
          </a:xfrm>
          <a:prstGeom prst="line">
            <a:avLst/>
          </a:prstGeom>
          <a:ln w="5724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Visual Too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7C6-E247-4E94-BD45-67E4AECB909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600200" y="3673440"/>
            <a:ext cx="106992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3" name=""/>
          <p:cNvGraphicFramePr/>
          <p:nvPr/>
        </p:nvGraphicFramePr>
        <p:xfrm>
          <a:off x="4114800" y="5283360"/>
          <a:ext cx="1371600" cy="84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5283360"/>
                    <a:ext cx="13716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1981080" y="5257800"/>
          <a:ext cx="914400" cy="89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5257800"/>
                    <a:ext cx="9144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812880" y="2119320"/>
            <a:ext cx="796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en I am Ups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2880" y="2819520"/>
            <a:ext cx="7961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 need to relax!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808680" y="5257800"/>
          <a:ext cx="914400" cy="903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08680" y="5257800"/>
                    <a:ext cx="9144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6781680" y="3673440"/>
          <a:ext cx="1425600" cy="132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3673440"/>
                    <a:ext cx="142560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2486160" y="4130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la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41306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ke deep breat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6095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on’t ki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75120" y="60958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on’t h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351480" y="609588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on’t y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ehaviour Too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600200" y="2209680"/>
          <a:ext cx="135900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0200" y="2209680"/>
                    <a:ext cx="1359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4DB-C56F-40C4-9F80-8D4EBBFD4200}" type="slidenum">
              <a:t>67</a:t>
            </a:fld>
          </a:p>
        </p:txBody>
      </p: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Structuring the Environm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tructure the classroo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Attend to sensory iss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Organize materi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Provide routi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se sched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Use First/Then c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ntroduce changes gradual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rcRect l="5470" t="25837" r="4687" b="25000"/>
          <a:stretch/>
        </p:blipFill>
        <p:spPr>
          <a:xfrm>
            <a:off x="4648320" y="4405320"/>
            <a:ext cx="2531880" cy="9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EB0-FC95-47AB-9E88-BB3E4498A45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5164200" cy="38736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flipH="1">
            <a:off x="5486040" y="3429000"/>
            <a:ext cx="685800" cy="838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tructure for Carpet Tim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3BA-BEA1-4A27-BB98-1D00D57CC69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munication Impairmen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2520" indent="-45252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elay in language develop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2520" indent="-45252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fficulty initiating or sustaining a convers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2520" indent="-45252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petitive or idiosyncratic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2520" indent="-45252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Lack of varied spontaneous imaginative pla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D9F-E36B-4794-AD02-A5144DD5F56D}" type="slidenum">
              <a:t>7</a:t>
            </a:fld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123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3366"/>
                </a:solidFill>
                <a:latin typeface="Arial"/>
              </a:rPr>
              <a:t>Structuring a Work St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6627960" cy="372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0A6-6C06-46B5-8B7A-B70396F7A64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Group Number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Name of Student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ransition Pla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ccommodation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PP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Arial"/>
              </a:rPr>
              <a:t>– Part Tw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E76-2563-4806-8773-C77FD708F7A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scussion Ques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3A3-0798-43F0-960D-61933732AB8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hat general instructional approaches are recommended for students with ASD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hat types of environmental supports and routines promote independenc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How can communication and social functioning be enhanced for students with ASD?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ocus Question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art Thre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8FD-D834-4325-A95B-6CCAAFADE9E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Visual suppor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tructuring the enviro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ncouraging independ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ask analys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ddressing sensory issu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pplied behaviour analys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structional Approach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029-1C17-45BE-9F05-1BF23FE4CA3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Fading promp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Fading physical pres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ncouraging Independence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 Goal For Every Studen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62E-6A97-46A1-9EDE-010D77C20BC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dependen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G 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Gestural promp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V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direct verbal promp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rect verbal promp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odel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P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inimal physical promp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P 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artial physical prompt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Full physical promp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ncouraging Independence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ierarchy of Promp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8B2-745E-4B63-B417-17A3DD66EAB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Breaking a large task into smaller subs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eaching and reinforcing subs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Forward chai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eaching each subskill in sequ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Backward chai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last step in subskill taught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ask Analys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259-13A8-49F9-A4CD-7538778DB4C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ask Analysis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rompt Hierarch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743200" y="2638440"/>
          <a:ext cx="407664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638440"/>
                    <a:ext cx="4076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58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2880" y="2119320"/>
            <a:ext cx="796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mple Task Analysis Data Sh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EC3-DE38-49FB-A40D-1E47219C95BC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04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How can direct instruction enhance learning and decrease problematic behaviours?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ocus Ques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524-3E14-447E-89A5-A379DDB9512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Repetitive Patterns of Behaviou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eoccupation with patterns of intere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flexible adherence to routi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petitive motor manneris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eoccupation with parts of objec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391-D125-4D94-9EF4-7F6078C750FB}" type="slidenum">
              <a:t>8</a:t>
            </a:fld>
          </a:p>
        </p:txBody>
      </p:sp>
    </p:spTree>
  </p:cSld>
  <p:transition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Test-teach-te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cripted lessons with clearly defined task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Sequenced tasks from simple to complex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Well-defined response expect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onsistent instructional langu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Carefully planned reinforcemen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Rapid-paced lesson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Independent work after maste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 Instruc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279-E4EB-407E-8309-5A427F57F30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timulu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romp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Respon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Consequ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ter-trial interv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screte Trial Train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F0D-2DFA-4995-8204-A554F99C82E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69228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69228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haping behaviours reinforce approximations to the desired behaviou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0">
              <a:buNone/>
              <a:tabLst>
                <a:tab algn="l" pos="0"/>
                <a:tab algn="l" pos="69228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69228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69228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 will be reinforced when he plays for two minut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69228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 will be reinforced when he plays for four minut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69228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 will be reinforced when he plays for six minut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0">
              <a:buNone/>
              <a:tabLst>
                <a:tab algn="l" pos="0"/>
                <a:tab algn="l" pos="69228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haping Procedur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B4B-3E62-4774-A6A3-8E3826DEEF2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hat is the rout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urpose of the routin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ask analysis of the rout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How will the routine be taugh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visu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written direc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09720" indent="-333360">
              <a:lnSpc>
                <a:spcPct val="90000"/>
              </a:lnSpc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backwards or forward ch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Write or sketch the rout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lanning a Routin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22E-5E71-431F-B549-1FC48775B1C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1371600" y="2438280"/>
          <a:ext cx="7091280" cy="3881160"/>
        </p:xfrm>
        <a:graphic>
          <a:graphicData uri="http://schemas.openxmlformats.org/drawingml/2006/table">
            <a:tbl>
              <a:tblPr/>
              <a:tblGrid>
                <a:gridCol w="2363760"/>
                <a:gridCol w="2363400"/>
                <a:gridCol w="2364120"/>
              </a:tblGrid>
              <a:tr h="12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Visual Guide to Planning a Routin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AAF-C075-410B-883E-15A630738AD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809280" y="2394000"/>
            <a:ext cx="39006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Audito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Visu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Tacti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Gustatory and olfacto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Vestibular and propriocepti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866840" y="2394000"/>
            <a:ext cx="39006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Times New Roman"/>
              </a:rPr>
              <a:t>Is the child extremely sensitive to sounds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Times New Roman"/>
              </a:rPr>
              <a:t>Are visual stimuli distracting the child?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Times New Roman"/>
              </a:rPr>
              <a:t>Are certain textures aversive?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Times New Roman"/>
              </a:rPr>
              <a:t>Are there strong preferences in tastes and smells?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Times New Roman"/>
              </a:rPr>
              <a:t>What is the child’s need to move and experience different types of pressure</a:t>
            </a:r>
            <a:r>
              <a:rPr b="0" lang="en-CA" sz="16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ssessing Sensory Issu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410-2D81-44F5-8584-BF5C0EF952A8}" type="slidenum">
              <a:t>85</a:t>
            </a:fld>
          </a:p>
        </p:txBody>
      </p:sp>
    </p:spTree>
  </p:cSld>
  <p:transition>
    <p:zoom dir="in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3366"/>
                </a:solidFill>
                <a:uFillTx/>
                <a:latin typeface="Times New Roman"/>
              </a:rPr>
              <a:t>Alerting/energizing</a:t>
            </a: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Gross motor activit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Fresh ai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Cold Wat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lay activities with toys and bright ligh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Loud energetic musi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Sudden fast move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862520" y="2214720"/>
            <a:ext cx="390528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3366"/>
                </a:solidFill>
                <a:uFillTx/>
                <a:latin typeface="Times New Roman"/>
              </a:rPr>
              <a:t>Relaxing/calm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Quiet musi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Deep press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Sucking activit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Deep breath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Repetitive behaviou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Weighted vests or blanke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Tensing and relax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ensory Di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C4B-F777-4625-AC45-21A7FF415B3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8640" y="2090880"/>
            <a:ext cx="32364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3900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To Ale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Use bright light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Use a slant boar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Listen to loud music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Hold fidget item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Wear cooler clothing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Erase the board or do classroom task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Chew gum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Drink something col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To Cal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Use a study carrel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Use a room divider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Listen to calm music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Hold fidget item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Wear warm clothing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Sit on an inflated cushio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Chew gum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3366"/>
                </a:solidFill>
                <a:latin typeface="Times New Roman"/>
              </a:rPr>
              <a:t>Suck on straw, candy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ensory Diet for Older Childr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F9C-7E37-4826-BBBF-8F7797410577}" type="slidenum">
              <a:t>87</a:t>
            </a:fld>
          </a:p>
        </p:txBody>
      </p:sp>
    </p:spTree>
  </p:cSld>
  <p:transition>
    <p:zoom dir="in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954680" cy="388152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dding a Sensory Break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2FD-CCE4-43E8-9B3D-6C5121285B8B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5246640" cy="3935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corporating Movement in the Clas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7BA-A130-482C-A693-7E6A0D64C92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Asperger’s Dis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-27468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social impairments and unusual behaviou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-27468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average or above cognitive abilitie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-27468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communication and anxiety are issu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-27468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language development not significantly delaye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5960" indent="-34596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Rett’s Disorde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-27468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occurs only in females, very rar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5960" indent="-34596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Childhood Disintegrative Dis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-27468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regression in multiple areas after normal developm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5960" indent="-34596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ervasive Developmental Disorder Not Otherwise Specifi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6560" indent="-274680"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Times New Roman"/>
              </a:rPr>
              <a:t>does not meet diagnostic criteria for autis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ther Autism Spectrum Disord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FE4-BC4C-4B9F-B8BE-AE24A544D0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rcRect l="9251" t="15417" r="6750" b="0"/>
          <a:stretch/>
        </p:blipFill>
        <p:spPr>
          <a:xfrm>
            <a:off x="2438280" y="2514600"/>
            <a:ext cx="4872240" cy="36799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pscotch Can Be a Sensory Break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593-ABB7-4B23-A636-CFFFE07E854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rcRect l="0" t="14165" r="31565" b="24252"/>
          <a:stretch/>
        </p:blipFill>
        <p:spPr>
          <a:xfrm>
            <a:off x="2514600" y="2590920"/>
            <a:ext cx="4781520" cy="38052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sing Bean Bag Chairs for Deep Press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EFC-9404-4965-BF59-03C0F384D7CF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5091120" cy="398952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arrying a Heavy Load Can Be a Sensory Break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FA4-CF33-4A24-8886-F52110B23B44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Mouthing, sucking, teeth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Hand-flapping or finger- flick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Yelling, making loud noi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Visual stimulation, fingers in front of ey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Deep tactile, masturb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866840" y="2214720"/>
            <a:ext cx="3900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Cup with straw, plastic tubing, chewing ite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Koosh toy, silicon gel ball, squishy ball, slinky to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Walkman, stories, click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Kaleidoscope, pinwheel ribb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Deep pressure, weighted vest, headband, cap, wristb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12880" y="61722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Times New Roman"/>
              </a:rPr>
              <a:t>The Source of Autism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, Linguisystems, 1997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ensory Accommodations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utism Modification Toy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C27-F1AF-40D7-9CE3-1EB956AB9967}" type="slidenum">
              <a:t>93</a:t>
            </a:fld>
          </a:p>
        </p:txBody>
      </p:sp>
    </p:spTree>
  </p:cSld>
  <p:transition>
    <p:zoom dir="in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Inappropriate sensation seek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laying with sali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Smelling hair or fe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lacing inedible objects in mout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Aimless running or spinning</a:t>
            </a: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ating shirt slee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Putting hands in pa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ubstituting More Appropriate Sensory Activit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622-D912-4465-8DC6-CEAC9828CC3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809640" y="3125520"/>
            <a:ext cx="390528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laying with sali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Smelling hair or fe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lacing inedible objects in mou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Aimless running or spinning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Eating shirt sleev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utting hands in pants</a:t>
            </a:r>
            <a:r>
              <a:rPr b="0" lang="en-C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862520" y="3125880"/>
            <a:ext cx="390528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utting lotion on han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Scratch and sniff stick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Sucking on water bott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laying tag or swinging on swing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roviding chewing toys/ gum/straws, etc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Using Koosh balls, squeeze toys, etc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ubstituting More Appropriate Sensory Activit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12880" y="214776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appropriate sens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appropriate activitie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sory activiti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0C2-4066-4F66-ADA7-D4543B12BFA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o enhance use of forms of communi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o increase use of different communicative function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o expand receptive and expressive s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o acquire pivotal social language s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To maintain two-way communi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munication Goa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738-FC74-4BBB-9060-8D8DB682EA0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3429000" y="2895480"/>
          <a:ext cx="77004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95480"/>
                    <a:ext cx="7700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3289320" y="3510000"/>
          <a:ext cx="81756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9320" y="3510000"/>
                    <a:ext cx="8175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2320920" y="4222800"/>
          <a:ext cx="923760" cy="65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0920" y="4222800"/>
                    <a:ext cx="9237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3692520" y="4800600"/>
          <a:ext cx="723960" cy="73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92520" y="4800600"/>
                    <a:ext cx="7239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4313160" y="2209680"/>
          <a:ext cx="7146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3160" y="2209680"/>
                    <a:ext cx="714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ssessing Forms of Communic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39625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peech/vocaliz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gn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dy langu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ic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ritten langu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haviou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04" name="j0078703" descr=""/>
          <p:cNvPicPr/>
          <p:nvPr/>
        </p:nvPicPr>
        <p:blipFill>
          <a:blip r:embed="rId11"/>
          <a:stretch/>
        </p:blipFill>
        <p:spPr>
          <a:xfrm>
            <a:off x="2695680" y="5410080"/>
            <a:ext cx="530280" cy="9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918-54B9-41F5-846C-3F19338EC4D2}" type="slidenum">
              <a:t>97</a:t>
            </a:fld>
          </a:p>
        </p:txBody>
      </p:sp>
    </p:spTree>
  </p:cSld>
  <p:transition>
    <p:zoom dir="in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812880" y="2211120"/>
            <a:ext cx="3200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Request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Obtaining atten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Protesting/refus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Expressing feelings, commenting and gaining in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Greeting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514600" y="2057400"/>
          <a:ext cx="7207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57400"/>
                    <a:ext cx="72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7621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3473280" y="2819520"/>
          <a:ext cx="654120" cy="69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2819520"/>
                    <a:ext cx="6541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3429000" y="3581280"/>
          <a:ext cx="590400" cy="6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81280"/>
                    <a:ext cx="5904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3809880" y="4648320"/>
          <a:ext cx="822600" cy="74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648320"/>
                    <a:ext cx="8226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2286000" y="5791320"/>
          <a:ext cx="668160" cy="66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5791320"/>
                    <a:ext cx="6681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ssessing Functions of Communic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CF0-4516-4C1B-99EB-F2D5318A9012}" type="slidenum">
              <a:t>98</a:t>
            </a:fld>
          </a:p>
        </p:txBody>
      </p:sp>
    </p:spTree>
  </p:cSld>
  <p:transition>
    <p:zoom dir="in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812520" y="2211480"/>
            <a:ext cx="79614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Expressive language may be more develop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May only hear last word or most familiar w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fficulty with multi-step direction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fficulty with abstract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Limited vocabula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Literal interpre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Times New Roman"/>
              </a:rPr>
              <a:t>Difficulty understanding social cu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ceptive Language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prehension Difficult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2ED-1A27-46C6-A728-BF8BB2E1CBE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7:20:28Z</dcterms:created>
  <dc:creator>sandy</dc:creator>
  <dc:description/>
  <dc:language>en-US</dc:language>
  <cp:lastModifiedBy>Bharati Singh</cp:lastModifiedBy>
  <cp:lastPrinted>2003-04-24T23:24:43Z</cp:lastPrinted>
  <dcterms:modified xsi:type="dcterms:W3CDTF">2011-01-17T21:09:30Z</dcterms:modified>
  <cp:revision>222</cp:revision>
  <dc:subject/>
  <dc:title>Slide 1</dc:title>
</cp:coreProperties>
</file>